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948-FF56-47B8-AB40-DC37A0CA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A99-B1DD-40CA-8FDD-4225885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2A9-E7B5-47EF-9495-6A0CA2B1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94E-34F6-486D-905A-C2AAFBC8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D03-79F6-47D2-BFDF-5D48E20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1C1-EDA3-48B1-B5C3-7554A2B3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508-A0DC-400B-9BBA-79678E1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FA8-B82A-4519-B471-F49C55D0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8F7-2D27-4063-A649-DF0AE898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717-F83E-4F9D-8F32-1D6E983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56D-264B-49CE-B772-9667396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1A0-3DD4-4CEA-A583-FB8FED9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4A3-42F7-40CB-9D06-C2BB2298F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0"/>
            <a:ext cx="571500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762120"/>
            <a:ext cx="5638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ur Language Syste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152280"/>
            <a:ext cx="579132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572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*Redneck Computer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CK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ou do when you ru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ross a skunk in the wood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AR C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Them's the fight'n rules down at the local tavern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U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The reason you give for calling in sick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Y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our pit bull dun to cusin Jethro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Needed when you run out of food stamp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HI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asture muffins that you try not to step in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RA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n you go to Junior's party uninvited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IGIT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art of counting on your finger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ISKET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Female Disco dancer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ou lie about to the IRS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CK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ncle Leroy after 32 years of smoking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4760" y="148428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52280"/>
            <a:ext cx="4419720" cy="62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RDCO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Picture looked at when selecting tattoo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cafeteria workers put their hair KEYBOARD - Where you hang the keys to the John Deer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EGAHERT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How your head feels after 17 beer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ODE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at ya did when the grass and weeds got too ta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OUSE PA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Mickey and Minnie liv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Scoop'n up a big fish before it breaks the lin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N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to stay when taking the sobriety tes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Where the pope liv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CR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Helps keep the skeeters off the porch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62485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*from:http://www.ahajokes.com/redneck_jok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8080" cy="330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86600" y="3809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>
            <a:lum bright="-42000"/>
          </a:blip>
          <a:stretch/>
        </p:blipFill>
        <p:spPr>
          <a:xfrm>
            <a:off x="3909960" y="274680"/>
            <a:ext cx="1322280" cy="1143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80880" y="1295280"/>
            <a:ext cx="5426280" cy="228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sound system of English with approximately 44 sou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04920"/>
            <a:ext cx="556236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2286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onological System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181480" y="1522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82880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1.Phon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2. Gra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3. Phonological aware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Black"/>
              </a:rPr>
              <a:t>knowledge about sound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4. Phonemic aware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Black"/>
              </a:rPr>
              <a:t>ability to manipulate sounds o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Black"/>
              </a:rPr>
              <a:t>5. Phonics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lum bright="-12000"/>
          </a:blip>
          <a:srcRect l="0" t="0" r="5958" b="28692"/>
          <a:stretch/>
        </p:blipFill>
        <p:spPr>
          <a:xfrm>
            <a:off x="7696080" y="304920"/>
            <a:ext cx="121932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457200"/>
            <a:ext cx="22100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abc-border-bkg" descr="abc-border-bkg.gif (4593 bytes)"/>
          <p:cNvPicPr/>
          <p:nvPr/>
        </p:nvPicPr>
        <p:blipFill>
          <a:blip r:embed="rId3">
            <a:lum contrast="-12000"/>
          </a:blip>
          <a:srcRect l="0" t="0" r="94097" b="0"/>
          <a:stretch/>
        </p:blipFill>
        <p:spPr>
          <a:xfrm>
            <a:off x="5334120" y="30492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27360" y="58276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Instruction about phoneme-grapheme correspondences and spelling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52280" y="0"/>
            <a:ext cx="586764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54864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structural system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English that governs ho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words are combined i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sent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52280"/>
            <a:ext cx="5638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tac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152280"/>
            <a:ext cx="3810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The structure or grammar of a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Mor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The smallest meaningful unit of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Free mor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A morpheme that can stand alone as a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Bound morp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A morpheme that must be attached to a free morpheme; these are typically affi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52280"/>
            <a:ext cx="44956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tac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-692" t="4198" r="66915" b="22519"/>
          <a:stretch/>
        </p:blipFill>
        <p:spPr>
          <a:xfrm>
            <a:off x="5334120" y="380880"/>
            <a:ext cx="1218960" cy="28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3080" y="380880"/>
            <a:ext cx="2362320" cy="289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rcRect l="35465" t="3108" r="26761" b="50236"/>
          <a:stretch/>
        </p:blipFill>
        <p:spPr>
          <a:xfrm>
            <a:off x="8077320" y="2133720"/>
            <a:ext cx="73980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29400" y="1600200"/>
            <a:ext cx="26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They call it a rel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ship” because it 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often sink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0" y="0"/>
            <a:ext cx="594360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228600"/>
            <a:ext cx="56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man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14300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meaning system of English that focuses on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181480" y="152280"/>
            <a:ext cx="3810240" cy="6400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Semantics</a:t>
            </a: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the study of how meaning in language is created by the use and interrelationships of words phrases, and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80880"/>
            <a:ext cx="236232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609480"/>
            <a:ext cx="260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I’m not f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I’m just fluffy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473400">
            <a:off x="8142120" y="842760"/>
            <a:ext cx="5954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0"/>
            <a:ext cx="586764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22860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agmatic System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219320"/>
            <a:ext cx="542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 system of English that varies language according to social and cultural 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2280" y="228600"/>
            <a:ext cx="4343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agmatic System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5181480" y="152280"/>
            <a:ext cx="381024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57200"/>
            <a:ext cx="2286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Ebonic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*Befo’ you know i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he had done aced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t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(Before you know it, 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will have already ac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th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440" y="1255680"/>
            <a:ext cx="481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Function – the purpose for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Standard Engl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Nonstandard Engl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480" y="6132600"/>
            <a:ext cx="65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from “Ebonics: Study Skill or Slavery Set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ub.umich.edu/daily/1997/jan/01-17-97/news/ff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9:58:42Z</dcterms:created>
  <dc:creator>Networking and Technical Support</dc:creator>
  <dc:description/>
  <dc:language>en-US</dc:language>
  <cp:lastModifiedBy>Networking and Technical Support</cp:lastModifiedBy>
  <dcterms:modified xsi:type="dcterms:W3CDTF">2007-02-05T23:10:00Z</dcterms:modified>
  <cp:revision>2</cp:revision>
  <dc:subject/>
  <dc:title>Four Language Systems</dc:title>
</cp:coreProperties>
</file>